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ADC-C4C3-4467-A81F-11FAFFBC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7C4-AD9B-4DE6-BA18-25797B80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C20-F13C-4BC7-97C2-5248F0D3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D6B-3EF9-44AE-B252-AFC90F6B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E83-9735-459F-8E17-39868FE2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D3A-1F94-4D4A-9493-C77C0D06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B52-C14A-4A4D-A290-4A5C44E1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29C-A7BA-4001-9487-8FC5071F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19C-3E2A-4640-86EF-4043AF1A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E6B-B95E-4CD4-A1E3-95377D55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A02-7662-482F-B260-93920D05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7BA-1E5A-4ED5-820F-1AE7D319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C809-6EE8-4349-BB1F-839AB4DA7F9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566" r="0" b="14803"/>
          <a:stretch/>
        </p:blipFill>
        <p:spPr>
          <a:xfrm>
            <a:off x="0" y="3068640"/>
            <a:ext cx="4427640" cy="3816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0" b="29050"/>
          <a:stretch/>
        </p:blipFill>
        <p:spPr>
          <a:xfrm>
            <a:off x="0" y="0"/>
            <a:ext cx="4427640" cy="314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427640" y="6308640"/>
            <a:ext cx="462096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By: Amy Chen, Bridget Panych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26028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Genetically Modified Plant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Sou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ornl.gov/sci/techresources/Human_Genome/elsi/gmfood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greenfacts.org/en/gmo/2-genetically-modified-crops/1-agricultural-biotechnology.htm#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recipes.howstuffworks.com/question148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trendhunter.com/trends/blue-rose-is-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宋体"/>
              </a:rPr>
              <a:t>Whitman, Deborah. Genetically Modified Foods: Harmful or Helpful. April 2000. http://www.csa.com/discoveryguides/gmfood/overview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Genetically Modified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Makes changes to the hereditary material of a living organis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Biotechnologies are used to develop plants resistant to pests, diseases, drought, heat, or cold, and improve the nutritional content of plant food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683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 2006, a total of 252 million acres of transgenic crops were planted in 22 countries by 10.3 million far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erbicide- and insect-resistant soybeans, corn, and co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weet potato resistant to a virus that could decimate most of the African harv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ice with increased iron and vitamins that may alleviate chronic malnutrition in Asian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ariety of plants able to survive weather extre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176720" cy="305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0" r="0" b="10810"/>
          <a:stretch/>
        </p:blipFill>
        <p:spPr>
          <a:xfrm>
            <a:off x="5076720" y="3429000"/>
            <a:ext cx="31719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Examples of GM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5267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undup, made by Monsanto (agriculture company)- a herbicide that kills any plant that it t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eated “Roundup Ready”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op ignores Roundup, but weeds are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undup Ready seeds reduce production costs and increase yield, so food becomes les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ientists have inserted genes that produce a natural insecticide into cor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40360" y="3860640"/>
            <a:ext cx="2664000" cy="177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0360" y="1790640"/>
            <a:ext cx="2592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Genetically Modified Flow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752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rebuchet MS"/>
              </a:rPr>
              <a:t>Blue R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A Japanese company, Sun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Delphinidin (produces blue pig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Growing the rose experimentally in Australia and the United States to get approval for s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33670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000000"/>
                </a:solidFill>
                <a:latin typeface="Agency FB"/>
                <a:ea typeface="宋体"/>
              </a:rPr>
              <a:t>Techn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9560" y="1773360"/>
            <a:ext cx="577080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Restriction enzym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Ligase enzym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Gene vecto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Donor gen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976320"/>
          <a:ext cx="1133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76320"/>
                    <a:ext cx="1133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71640" y="1336680"/>
          <a:ext cx="174312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336680"/>
                    <a:ext cx="17431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012000" y="1407960"/>
          <a:ext cx="1495440" cy="149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407960"/>
                    <a:ext cx="149544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020000" y="3568680"/>
          <a:ext cx="177156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3568680"/>
                    <a:ext cx="17715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995640" y="4000680"/>
          <a:ext cx="1495440" cy="19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5640" y="4000680"/>
                    <a:ext cx="14954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0" y="2992320"/>
          <a:ext cx="2682720" cy="367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2992320"/>
                    <a:ext cx="268272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403280" y="1768320"/>
          <a:ext cx="1584360" cy="69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1768320"/>
                    <a:ext cx="158436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284720" y="1697040"/>
          <a:ext cx="1584360" cy="69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4720" y="1697040"/>
                    <a:ext cx="15843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236000" y="1841400"/>
          <a:ext cx="1736640" cy="1685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6000" y="1841400"/>
                    <a:ext cx="173664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580000" y="4505400"/>
          <a:ext cx="1657440" cy="96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80000" y="4505400"/>
                    <a:ext cx="16574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2627280" y="4361040"/>
            <a:ext cx="1295280" cy="75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828720" y="189000"/>
            <a:ext cx="748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Diagram of Proces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Agency FB"/>
              </a:rPr>
              <a:t>Benefits</a:t>
            </a:r>
            <a:r>
              <a:rPr b="1" lang="zh-TW" sz="6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Cr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Preventing malnutrition/dis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Eliminating Pestic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Environ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"Friendly" herbicides and insecticid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Conservation of soil, water, and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Better natural waste manage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Socie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Increased food security for growing popul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Risks and Controvers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Safety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Human health impact: allergens, transfer of antibiotic resistance markers, unknown effe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Ethics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Violation of nature’s organis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ampering with nature by mixing genes among speci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Objections to consuming animal genes in pla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4:52:09Z</dcterms:created>
  <dc:creator>ASUS</dc:creator>
  <dc:description/>
  <dc:language>en-US</dc:language>
  <cp:lastModifiedBy>HP</cp:lastModifiedBy>
  <dcterms:modified xsi:type="dcterms:W3CDTF">2008-03-05T12:41:10Z</dcterms:modified>
  <cp:revision>38</cp:revision>
  <dc:subject/>
  <dc:title>Genetically Modified Plants</dc:title>
</cp:coreProperties>
</file>